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FA2-4DDA-43FC-A369-915D71BF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0B1-6C02-483E-B338-A0CC23A7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736-F983-41AB-83F9-04CCA4AB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5E5-EBBF-4120-9895-BC3794A6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4482-230C-4707-AE9E-3E74A03A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405D-7C68-423C-AD2C-E13BAFD4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4438-0EA4-4A9C-96AE-748D5C8E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4849-D484-431C-80D6-56A04525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7960-E371-4B0C-8B53-7B5A9C76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D089-1CBF-40AA-AFC1-D6C7DC4B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0378-CC80-41E5-97BC-99B1D6AE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4C5-E8FB-478A-B6F9-ED20DDAA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D14A-E882-4B2B-B3EE-CEC3164A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E382-923E-45D0-B94D-E8DF3525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D3A9-F25C-4B61-BDE3-C70ED097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BEED-9A4B-474E-87F9-A0AE8A62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3756-102C-4DB6-A40E-BAAC4B9C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9D4-697D-47CA-99EE-F5C8D22B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124-8F5E-4F24-A3C7-03DEC981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F23-DD95-42B8-8140-287CEE6D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54A-BE55-4512-BA6B-3A1267DC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CE1-C995-459C-B9C4-AAA8E829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0EB-BC4A-49F6-93A7-F0963832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063-D361-4928-8955-CC0D57B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7D9E-4B76-4929-8DD6-A5D549AD88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CF2E-51F8-4BEF-8D21-F13D0A322C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35-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22; 2 Chron.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0064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276720" y="2743200"/>
            <a:ext cx="76176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038480" y="837720"/>
            <a:ext cx="213372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8580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bothered Ahab that Ramoth-gilead was no longer in Israelite contro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37339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this lesson there will be further confrontations with the Arameans over land-contr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icaiah Prophesies Against Ahab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 of Ahab’s reign – 1 Kgs.22:1-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b and Jehoshaphat make an alliance to fight the Arameans. 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hets of Ahab assure him of victory. 5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aiah reveals a very bleak outcome for Ahab and Israel. 17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b protests his negative preaching. 24-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icaiah Prophesies Against Ahab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 of Ahab’s reign – 1 Kgs.22:1-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yal apparel is discarded to hide Ahab’s identity. 29-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an arrow finds him and mortally wounds him. 34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gative predictions of Elijah and Micaiah came tr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itive preaching of the false prophets had only hardened Ahab against th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hab’s Death and Buri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evening he d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ttle was stop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ab was brought back to Samaria and bur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bloody chariot was washed at a pool of the prostit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gs licked up the bloody water (1 Kings 21: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ssons From Aha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reap what we s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influence people for truth or for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want all positive messages, we may never be willing to face important truths about our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eave behind a legacy of honor or sh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5:41:02Z</dcterms:created>
  <dc:creator>Terry W. Benton</dc:creator>
  <dc:description/>
  <dc:language>en-US</dc:language>
  <cp:lastModifiedBy>Frank D Vines</cp:lastModifiedBy>
  <dcterms:modified xsi:type="dcterms:W3CDTF">2005-07-29T15:48:34Z</dcterms:modified>
  <cp:revision>2</cp:revision>
  <dc:subject/>
  <dc:title>Till There Was No Remedy (The Divided Kingdom)</dc:title>
</cp:coreProperties>
</file>